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1F8E-8B1B-4AE3-B7E5-99AD69EB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C426-9F8A-4F9F-B723-CE74626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A2E3-2AEF-490B-8614-D36EC582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2787-8953-4E45-B658-421DBA27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F1FF-7E1F-4262-98C3-F23D2446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0A94-B964-4D2F-8DD2-FDF337A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D955-F61E-4FB2-B3AE-97AEAB5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124E-A607-4C6A-B034-9547C66F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5C0C-7D9B-4C44-B961-03F1277A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752-0F63-46F0-AA7C-1FB119F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3CAF-7F82-4D04-A8F9-E48CD6F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BDF1-61BA-4C60-8224-D95B762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A457-4417-4A52-BD53-97F972E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FD4-2731-4228-8160-9200A83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D9D-D166-4C15-86A8-8CF07933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6F3F-7DF7-4C90-B677-170FC07E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2F5E-FF5B-4593-909E-06B06F4F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E74A-4D2F-45A4-BF19-B1402A60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361E-9F2E-476E-BBBC-1250C50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6C9C-BC2D-4750-97EC-299B50F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CD49-D2EF-4C26-827E-54B430C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71F2-FB2A-44E5-B005-1294ACA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4BA3-08E7-475B-990E-44042CD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553A-B48B-4A7F-8A5B-685B002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9D6-8604-4978-9F08-BB70A5A3F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4A0-207F-4093-8A8D-93CC5E655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38480" y="56386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art the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762120"/>
            <a:ext cx="5410080" cy="761760"/>
          </a:xfrm>
          <a:custGeom>
            <a:avLst/>
            <a:gdLst>
              <a:gd name="textAreaLeft" fmla="*/ 49320 w 5410080"/>
              <a:gd name="textAreaRight" fmla="*/ 5360760 w 5410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53343" h="21600">
                <a:moveTo>
                  <a:pt x="0" y="0"/>
                </a:moveTo>
                <a:lnTo>
                  <a:pt x="153343" y="0"/>
                </a:lnTo>
                <a:lnTo>
                  <a:pt x="153343" y="21600"/>
                </a:lnTo>
                <a:lnTo>
                  <a:pt x="0" y="21600"/>
                </a:lnTo>
                <a:close/>
              </a:path>
              <a:path fill="lightenLess" w="153343" h="21600">
                <a:moveTo>
                  <a:pt x="0" y="0"/>
                </a:moveTo>
                <a:lnTo>
                  <a:pt x="153343" y="0"/>
                </a:lnTo>
                <a:lnTo>
                  <a:pt x="151943" y="1400"/>
                </a:lnTo>
                <a:lnTo>
                  <a:pt x="1400" y="1400"/>
                </a:lnTo>
                <a:close/>
              </a:path>
              <a:path fill="darken" w="153343" h="21600">
                <a:moveTo>
                  <a:pt x="153343" y="0"/>
                </a:moveTo>
                <a:lnTo>
                  <a:pt x="153343" y="21600"/>
                </a:lnTo>
                <a:lnTo>
                  <a:pt x="151943" y="20200"/>
                </a:lnTo>
                <a:lnTo>
                  <a:pt x="151943" y="1400"/>
                </a:lnTo>
                <a:close/>
              </a:path>
              <a:path fill="darkenLess" w="153343" h="21600">
                <a:moveTo>
                  <a:pt x="15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943" y="20200"/>
                </a:lnTo>
                <a:close/>
              </a:path>
              <a:path fill="lighten" w="15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Show Answers to Questions. Delete this button w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finished making ans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609480"/>
            <a:ext cx="83822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0948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em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29528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28600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27672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26708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257800"/>
            <a:ext cx="16002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29528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28600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27672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26708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257800"/>
            <a:ext cx="16002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29528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28600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27672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26708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257800"/>
            <a:ext cx="16002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29528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8600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327672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26708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5257800"/>
            <a:ext cx="1600200" cy="9144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29528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327672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426708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5257800"/>
            <a:ext cx="16002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141480" y="609480"/>
            <a:ext cx="9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 Click in Box and erase the text and type your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53360" y="23353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swer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69640" y="51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95560" y="27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876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1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1" y="20200"/>
                </a:lnTo>
                <a:lnTo>
                  <a:pt x="55291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1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Answer is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3:12:55Z</dcterms:created>
  <dc:creator>jnatale</dc:creator>
  <dc:description/>
  <dc:language>en-US</dc:language>
  <cp:lastModifiedBy>jnatale</cp:lastModifiedBy>
  <dcterms:modified xsi:type="dcterms:W3CDTF">2009-02-20T16:08:22Z</dcterms:modified>
  <cp:revision>20</cp:revision>
  <dc:subject/>
  <dc:title>Slide 1</dc:title>
</cp:coreProperties>
</file>